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9519-9761-4EBF-ABC5-D361C4DCF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DE0-8E4F-4ADA-80CA-6BA519C8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A217-F098-4522-9C1F-9D2F815BA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8BA3-ECAD-4B5C-A208-9DABCC51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FBF9-9474-4D87-A107-C10C5E8E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DB18-AA57-4E18-A736-7E62E3BD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D05C-DB2B-464B-8648-D791AF45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784A-0547-410F-A37B-DB64AB9F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F79-0891-45B9-A31B-584EA342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760-26D0-4D4F-A20A-F6A34DFB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3503-8DED-40FB-88D5-140F0690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450-B083-4014-8CAE-37F9E50A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C46A-09ED-402A-8138-813A52077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Martin Otter</cp:lastModifiedBy>
  <dcterms:modified xsi:type="dcterms:W3CDTF">2007-11-29T08:35:17Z</dcterms:modified>
  <cp:revision>1</cp:revision>
  <dc:subject/>
  <dc:title>Folie 1</dc:title>
</cp:coreProperties>
</file>